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2EC-B423-4C28-8591-ED5275C7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910-0036-4AA3-999C-E83C287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D2F-D5C7-434F-AB92-9B50E5EB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94F-0F22-4646-9C3B-93FF4A4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468-D9C9-4644-B53D-FDE13D7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53D-D487-4BFA-AE1D-2F4C1F8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5FD-1478-4267-B0CE-2C18A92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820-630F-4B19-9A9A-3F3C661C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AC4-F49D-4DA6-82FE-BC3FAB7C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173-1C1A-412D-911D-4EB7964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777-7CE1-427D-9E8D-4A0714D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9E7-5046-4945-A400-87BB5ED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4CA-7C75-4F4A-86D8-3C1B8ED87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Tools.co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earch Indexing Robo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File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ge is testing whether search indexing robots follow URL links to PowerPoint .ppt files, and whether the indexer recognizes text in these fil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arch for the unique keyword below and find this page, the search engine robot follows these links and indexes this text. 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rch Unique Keyword: RTest, RTestGood, RTestGood16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lso searchable keywords in the document Properties (test 146). Search for that unique keyword to see if properties  are indexed as we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information, see &lt;http://www.searchtools.com/test/&gt;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4:08:32Z</dcterms:created>
  <dc:creator>Avi Rappoport</dc:creator>
  <dc:description/>
  <cp:keywords>RTest RTestGood RTestGood163</cp:keywords>
  <dc:language>en-US</dc:language>
  <cp:lastModifiedBy>Avi Rappoport</cp:lastModifiedBy>
  <dcterms:modified xsi:type="dcterms:W3CDTF">1999-10-16T04:12:41Z</dcterms:modified>
  <cp:revision>3</cp:revision>
  <dc:subject>Robot &amp; Indexer Testing</dc:subject>
  <dc:title>Indexing PowerPoint Documents</dc:title>
</cp:coreProperties>
</file>